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A295-9177-45F4-A3A6-0E0B41530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D81B-9F4B-46AF-A5D3-5701787C0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8840-5BF6-4F7F-AA65-EC4A1A3F8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428F-EB5D-4090-B0A8-69C112CA2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85F9-3944-4491-9B4F-8CB1635DCC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8BF2-63B1-40D3-AE51-CB10DA571A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E7BE-CC15-4FC9-8DB5-9B8B9DF9C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34CF-4A7D-4A83-8EF9-430ADF3A7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16A7-9168-46B4-9F0D-E26CE8A46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810E-4397-4CA0-B2EF-41563BD6DE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12E4-7446-4EB2-BF02-ADEFD1CFA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F401-0954-498E-8478-39DE41F11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3CDD-32A5-4BE2-AA9C-2C2944E1F5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60C3-B98A-4420-AD3B-FD58F954A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0457-CA9C-475C-804F-DA36F76408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B530-7827-4092-86F4-F7C3165F43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F772-0AE6-44E9-9DD9-F03651CD2C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8C8F4-DE6F-46D4-8630-4EB861ACE2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EB745-F3B2-4234-A189-7D65834E95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EF14D-3938-4A41-818F-B1F38E8E42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B7CD0-35A4-41FA-A98D-C8668C1866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8C6C-AB63-4219-89AC-3D3456414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F37B-BFEC-4BF8-8BF3-6ABE213E74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65B97-F6CA-4EBB-90BE-9BB06C5004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C5B98-898B-4BCE-BCF5-76BDC0CCD9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606C5-1CBF-443A-80DB-6E8177AD8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92627-04FA-4B4A-8D71-D1C8CC870E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2AC84-67FF-48A8-BF55-511CD69AC4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12069-D882-4DB8-AC09-87603F1CBE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58C91-F238-46FD-97A0-6E0E6F370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3C17-BF29-491F-98BE-A3F1A6487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D3CE-1D6A-43F4-AC67-28DDAE9BF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9923-3159-42AC-89E4-79075B194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6084-D1C1-4204-B8A8-B27FCDC45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E852-618C-4B48-A3F3-2D367069E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944D-8B8D-446A-AD23-CFC7056D9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CF3-ED81-45FA-9746-987D6A09694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3560" indent="-511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0556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8800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7" name="Text Box 18"/>
          <p:cNvSpPr/>
          <p:nvPr/>
        </p:nvSpPr>
        <p:spPr>
          <a:xfrm rot="16200000">
            <a:off x="-930960" y="1961280"/>
            <a:ext cx="28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8" name="Picture 24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801-69CC-4D96-973C-045BA2F6887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877080" y="6237360"/>
            <a:ext cx="2266920" cy="307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a2d1"/>
                </a:solidFill>
                <a:latin typeface="Arial"/>
              </a:rPr>
              <a:t>Baris Izci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3" name="Text Box 23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4" name="Text Box 24"/>
          <p:cNvSpPr/>
          <p:nvPr/>
        </p:nvSpPr>
        <p:spPr>
          <a:xfrm rot="16200000">
            <a:off x="-911160" y="1909800"/>
            <a:ext cx="28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931-D4FE-4A48-85AE-184696394D6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58800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8" name="Text Box 20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9" name="Text Box 21"/>
          <p:cNvSpPr/>
          <p:nvPr/>
        </p:nvSpPr>
        <p:spPr>
          <a:xfrm rot="16200000">
            <a:off x="-907200" y="1987560"/>
            <a:ext cx="28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Dortmund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cdd.gov.tr/tcdding/avrupa_ing.htmhttp://en.wikipedia.org/wiki/Turkish_State_Railways" TargetMode="External"/><Relationship Id="rId2" Type="http://schemas.openxmlformats.org/officeDocument/2006/relationships/hyperlink" Target="http://en.wikipedia.org/wiki/Istanbul_Sirkeci_railway_station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24212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Public Railways Transportation between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Turkey and Balkan States</a:t>
            </a:r>
            <a:br>
              <a:rPr sz="36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71440" y="278568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de-DE" sz="4000" spc="-1" strike="noStrike">
                <a:solidFill>
                  <a:srgbClr val="333399"/>
                </a:solidFill>
                <a:latin typeface="Australian Sunrise"/>
                <a:ea typeface="宋体"/>
              </a:rPr>
              <a:t>Pres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 </a:t>
            </a: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Baris Iz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29C-88C5-4608-96A9-DE7E3B7B5F7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757260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A9C-B7BE-4AE4-846D-3C3F29AA89B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Referenc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7280" y="2205000"/>
            <a:ext cx="75614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cdd.gov.tr/tcdding/avrupa_ing.htmhttp://en.wikipedia.org/wiki/Turkish_State_Railway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Istanbul_Sirkeci_railway_st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7107-7380-47AD-9FF4-CEB04C0E6CD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561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URKISH STATE RAILWAY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One of the biggest state owned corporation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 operater of the domestic line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Member of InterRail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s Middle East- the Balkans –Europe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rerates its trains to further European Countries with Interrail.</a:t>
            </a: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</p:txBody>
      </p:sp>
      <p:pic>
        <p:nvPicPr>
          <p:cNvPr id="141" name="Content Placeholder 6" descr="tcdd.jpg"/>
          <p:cNvPicPr/>
          <p:nvPr/>
        </p:nvPicPr>
        <p:blipFill>
          <a:blip r:embed="rId1"/>
          <a:stretch/>
        </p:blipFill>
        <p:spPr>
          <a:xfrm>
            <a:off x="3214800" y="142920"/>
            <a:ext cx="3571920" cy="12142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ADBA-029F-45A0-97B3-45FCDDB9EE7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SYSTEM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D7EA-E17C-46FF-BB87-9CB68EE589C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360" y="188640"/>
            <a:ext cx="8072280" cy="59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403280" y="285840"/>
            <a:ext cx="7097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900"/>
                </a:solidFill>
                <a:latin typeface="Australian Sunrise"/>
              </a:rPr>
              <a:t>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rains to the Balkans</a:t>
            </a: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1900"/>
                </a:solidFill>
                <a:latin typeface="Arial"/>
                <a:ea typeface="Times New Roman"/>
              </a:rPr>
              <a:t>Filia Express</a:t>
            </a: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48" name="Picture 7" descr="Bosphorus-Europe-Express.jpg"/>
          <p:cNvPicPr/>
          <p:nvPr/>
        </p:nvPicPr>
        <p:blipFill>
          <a:blip r:embed="rId1"/>
          <a:stretch/>
        </p:blipFill>
        <p:spPr>
          <a:xfrm>
            <a:off x="1285920" y="2000160"/>
            <a:ext cx="3357360" cy="180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dostluk_tr.jpg"/>
          <p:cNvPicPr/>
          <p:nvPr/>
        </p:nvPicPr>
        <p:blipFill>
          <a:blip r:embed="rId2"/>
          <a:stretch/>
        </p:blipFill>
        <p:spPr>
          <a:xfrm>
            <a:off x="4786200" y="3857760"/>
            <a:ext cx="330048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9DEE-6042-4825-8A52-F71CE22DB50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Times New Roman"/>
              </a:rPr>
              <a:t>ROUTES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4280" y="1785600"/>
            <a:ext cx="7561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Sofia-Belgrade-Buchares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Alexandroupolis-Komotini-Xanthi-Drama-Serres-Kilkis-Salonik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D2F-A197-47F4-B6A0-8E05F585182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55964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71760" y="1928520"/>
            <a:ext cx="7572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43040" y="2643120"/>
          <a:ext cx="6095880" cy="2835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6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7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9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EE5E-9497-456F-AD80-697D89520D7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5596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643040"/>
            <a:ext cx="7561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Supplement Fares for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14680" y="2786040"/>
          <a:ext cx="6643440" cy="331776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660680"/>
                <a:gridCol w="166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rist(2/3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(2/2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(1/1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59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4800"/>
            </a:br>
            <a:r>
              <a:rPr b="1" lang="en-US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endParaRPr b="0" lang="en-US" sz="20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4280" y="1499760"/>
            <a:ext cx="7561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343-4487-4D66-9CD5-6D2690C9C0B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4280" y="2286000"/>
          <a:ext cx="7286760" cy="375768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Clas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Class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anbul-Salonik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9                                                   57 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ilk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Serr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Dram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Xanth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omotin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Alexandroupol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7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Decision Table</a:t>
            </a:r>
            <a:endParaRPr b="0" lang="en-US" sz="5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2205000"/>
            <a:ext cx="756144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d2d8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Preferred traveling Cla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Willing to have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) Price in Turkish Lir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804-42AB-4A34-9049-554A20D32C2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Decision Table</a:t>
            </a:r>
            <a:br>
              <a:rPr sz="4800"/>
            </a:b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Sampl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DBA-05D1-4BAC-976E-FDCDE2DF7BF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15520" cy="442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USER</cp:lastModifiedBy>
  <dcterms:modified xsi:type="dcterms:W3CDTF">2009-10-12T21:58:35Z</dcterms:modified>
  <cp:revision>82</cp:revision>
  <dc:subject/>
  <dc:title>Simulation Methods and Educational Educational Games for Project Management</dc:title>
</cp:coreProperties>
</file>